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0C5-A095-433E-96C9-2CEF08ED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EF8-2A12-4232-A4DC-04F93819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93F-EF8D-4853-A970-2502DBE2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3C7-9ED3-4FB8-A0ED-8CFC52D6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F3F-71C7-41F1-9DE4-2102195C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EF5-6403-4EB1-9A23-2F9762C9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745-95C9-4A3E-82B3-C330B1C5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B8E-0A75-4C16-826B-DCFB20AB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1CC-C292-4B3F-8980-AE7ADB9A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19A-A745-496E-8FBF-939653C4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A8B-29DD-4949-A9EB-32824F11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DE8-28C3-4C8E-B1AF-4BD577DE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D4DF-C926-4903-B1FF-D30E631E8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oughova transform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chlý a jednoduchý  algoritmus k nalezení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íčová myšlenka: Hrany hlasuji pro možný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ough zhodnoc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guje i pro porušené hr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lativně necitlivý na zakrytí části objek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fektivní pro jednoduché tvary (přímky,kružnice,a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romis mezi prací v obrazovém prostoru a parametrickém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ládá nepřesné nalezení hrany:inkrementuje část akumulátoru což je lepší než inkrementace jednoho b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lezen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ny nalezneme konvoluci obrazu s maskou aproximující druhou derivac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voluci provádíme v x-ovém i y-ovém smě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počteme velikost gradi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bou prahu zachováme jen hrany pro nás zajíma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ém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rany nemusí být spoje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jekt nemusí byt zcela viditel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můžeme nalézt a popsat vlastnosti komplexního objek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Houghova transformace je obecný  přístup k nalezení objektu popsaného parametrickými rovnice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kladní myšle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á přímka v obraze může být popsána rovnicí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k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ý bod přímky může ležet na nekonečně mnoho přímk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houghově transformaci (prostoru nebo akumulátoru) hlasuje každý bod pro všechny přímky na kterých může lež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mky s největším počtem hlasů vyhra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537160" y="1600200"/>
          <a:ext cx="225900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7160" y="1600200"/>
                    <a:ext cx="225900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457960" y="3938760"/>
          <a:ext cx="2417760" cy="21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7960" y="3938760"/>
                    <a:ext cx="24177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721480" y="3938760"/>
          <a:ext cx="1890720" cy="21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1480" y="3938760"/>
                    <a:ext cx="189072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ntuj parametricky prostor (k,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oř akumulátor A(k,q)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každý hranový b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y) inkrementuj A(k,q)=A(k,q)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(k,q) splňu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q=-k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lezn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ální ma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459400" y="1600200"/>
          <a:ext cx="2416320" cy="21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9400" y="1600200"/>
                    <a:ext cx="24163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ba parametr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442120" y="3938760"/>
          <a:ext cx="2450880" cy="21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2120" y="3938760"/>
                    <a:ext cx="245088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: 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ikost akumu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tší výpočetní náročnost a větší požadavek na pamě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lepše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rametrická reprezentac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=-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+y*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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-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459400" y="1600200"/>
          <a:ext cx="2414520" cy="21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9400" y="1600200"/>
                    <a:ext cx="24145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sné kvantování provést (moc velké způsobí nalezení jiných přímek, moc malé problém šumu přehlednutí přím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lik přímek vybr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čti maxima v hougově akumulát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n-maxima supre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teré body náleží dané přím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ej body v okolí přím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řeš znovu pro přímky a iteru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692680" y="3938760"/>
            <a:ext cx="1947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ough-hledání kruž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40384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vnice k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-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²+(y-b) ²=r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je poloměr známý bude houghův akumulátor ve 2D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kud je polo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r neznámý bude houghův akumulátor ve 3D A(a,b,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589720" y="3938760"/>
          <a:ext cx="2155680" cy="21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9720" y="3938760"/>
                    <a:ext cx="215568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537160" y="1600200"/>
          <a:ext cx="2259000" cy="21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37160" y="1600200"/>
                    <a:ext cx="225900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obecněná houghova transform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 Orientace b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 Orientace h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na je reprezentovanajako (x,y,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i stř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u (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 akumulátor A(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bul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každý hranový bod (x,y,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 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ždé g spoč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krementuj A(x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=A(x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i lokální max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219640" y="4508640"/>
          <a:ext cx="3467160" cy="1971360"/>
        </p:xfrm>
        <a:graphic>
          <a:graphicData uri="http://schemas.openxmlformats.org/drawingml/2006/table">
            <a:tbl>
              <a:tblPr/>
              <a:tblGrid>
                <a:gridCol w="1733760"/>
                <a:gridCol w="1733400"/>
              </a:tblGrid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ěr hr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=(r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356000" y="1628640"/>
          <a:ext cx="4568760" cy="26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628640"/>
                    <a:ext cx="456876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020000" y="4970520"/>
                <a:ext cx="1008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093080" y="6021360"/>
                <a:ext cx="12920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020000" y="5516640"/>
                <a:ext cx="1008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547640" y="4062240"/>
                <a:ext cx="19447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8:20:38Z</dcterms:created>
  <dc:creator>JaTro</dc:creator>
  <dc:description/>
  <dc:language>en-US</dc:language>
  <cp:lastModifiedBy>JaTro</cp:lastModifiedBy>
  <dcterms:modified xsi:type="dcterms:W3CDTF">2007-04-11T12:49:10Z</dcterms:modified>
  <cp:revision>23</cp:revision>
  <dc:subject/>
  <dc:title>Hough transform</dc:title>
</cp:coreProperties>
</file>